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33.wmf" ContentType="image/x-wmf"/>
  <Override PartName="/ppt/media/image28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30.png" ContentType="image/png"/>
  <Override PartName="/ppt/media/image12.png" ContentType="image/png"/>
  <Override PartName="/ppt/media/image34.wmf" ContentType="image/x-wmf"/>
  <Override PartName="/ppt/media/image9.wmf" ContentType="image/x-wmf"/>
  <Override PartName="/ppt/media/image14.png" ContentType="image/png"/>
  <Override PartName="/ppt/media/image5.jpeg" ContentType="image/jpeg"/>
  <Override PartName="/ppt/media/image26.jpeg" ContentType="image/jpeg"/>
  <Override PartName="/ppt/media/image35.png" ContentType="image/png"/>
  <Override PartName="/ppt/media/image43.jpeg" ContentType="image/jpeg"/>
  <Override PartName="/ppt/media/image41.jpeg" ContentType="image/jpeg"/>
  <Override PartName="/ppt/media/image45.png" ContentType="image/png"/>
  <Override PartName="/ppt/media/image47.png" ContentType="image/png"/>
  <Override PartName="/ppt/media/image10.png" ContentType="image/png"/>
  <Override PartName="/ppt/media/image6.jpeg" ContentType="image/jpeg"/>
  <Override PartName="/ppt/media/image44.png" ContentType="image/png"/>
  <Override PartName="/ppt/media/image40.jpeg" ContentType="image/jpeg"/>
  <Override PartName="/ppt/media/image46.png" ContentType="image/png"/>
  <Override PartName="/ppt/media/image36.png" ContentType="image/png"/>
  <Override PartName="/ppt/media/image48.png" ContentType="image/png"/>
  <Override PartName="/ppt/media/image13.png" ContentType="image/png"/>
  <Override PartName="/ppt/media/image8.wmf" ContentType="image/x-wmf"/>
  <Override PartName="/ppt/media/image38.wmf" ContentType="image/x-wmf"/>
  <Override PartName="/ppt/media/image37.png" ContentType="image/png"/>
  <Override PartName="/ppt/media/image7.png" ContentType="image/png"/>
  <Override PartName="/ppt/media/image22.jpeg" ContentType="image/jpeg"/>
  <Override PartName="/ppt/media/image39.png" ContentType="image/png"/>
  <Override PartName="/ppt/media/image23.wmf" ContentType="image/x-wmf"/>
  <Override PartName="/ppt/media/image4.png" ContentType="image/png"/>
  <Override PartName="/ppt/media/image2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dt" idx="7"/>
          </p:nvPr>
        </p:nvSpPr>
        <p:spPr>
          <a:xfrm>
            <a:off x="3884760" y="0"/>
            <a:ext cx="297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3360" cy="30844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4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0717BB-C29F-4731-8035-D5204E1709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B198B-A25D-4981-B854-CF513C2BCB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7C47E-D6BF-45F4-92D5-0EDCEE2177B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13224-1B53-44FC-B890-3B9A549179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Директн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н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органск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материју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 (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молекул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, 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ДН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, 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РНК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, 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протеин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) 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довод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д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кидањ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постојећи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стварањ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нови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вез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. 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След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поремећај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метаболизм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физиолошких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функциј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, 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мутациј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смр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ћелиј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Масти-липидни пероксид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Угљени хидрати-преки дугих ланац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Промена растворљивости проте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499890-B90B-466F-96F7-98734FCE447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519AF-A4D6-4AD2-8BAE-DDA87A33FCD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C01F81-BFF2-4C9E-8FB7-C722650B03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usled radiolize vode stvaraju se reaktivni  slobodni radikali: </a:t>
            </a:r>
            <a:br>
              <a:rPr sz="1200"/>
            </a:b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H, OH, H</a:t>
            </a:r>
            <a:r>
              <a:rPr b="0" lang="sr-Latn-CS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sr-Latn-CS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 koji  reaguju sa  intracelularnim molekulima kidajući molekularne veze.  Preostali deo molekula se ponaša kao slobodni  radikal koji stupa u reakciju sa  drugim radikalima stvarajući nove tipove  molekula koji i gube svoju biološku funkciju.</a:t>
            </a: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81FE05A-33D1-4845-A6F3-B1B40B93BE8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3E957-000A-4FEA-9143-599A149C0D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2D2AD5-C7BB-4440-9BE8-BBC094E51A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9CFBA-D322-44FD-8410-C8719DCB2DF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B5744-E813-4DCA-925E-5EE0A6DE87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954D5-8A55-4289-8573-AE4FF5491F1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Latn-CS" sz="1200" spc="-1" strike="noStrike">
                <a:solidFill>
                  <a:srgbClr val="ff9900"/>
                </a:solidFill>
                <a:latin typeface="Times New Roman"/>
                <a:ea typeface="Microsoft YaHei"/>
              </a:rPr>
              <a:t>Jonizacija se dešava kada energija  zračenja izbaci   elektron iz orbite atoma sredine kroz koju zračenje prolazi. Pri tome atom postaje pozitivno  naelektis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Latn-CS" sz="1200" spc="-1" strike="noStrike">
                <a:solidFill>
                  <a:srgbClr val="ff9900"/>
                </a:solidFill>
                <a:latin typeface="Times New Roman"/>
                <a:ea typeface="Microsoft YaHei"/>
              </a:rPr>
              <a:t>   “ </a:t>
            </a:r>
            <a:r>
              <a:rPr b="1" lang="sr-Latn-CS" sz="1200" spc="-1" strike="noStrike">
                <a:solidFill>
                  <a:srgbClr val="ff9900"/>
                </a:solidFill>
                <a:latin typeface="Times New Roman"/>
                <a:ea typeface="Microsoft YaHei"/>
              </a:rPr>
              <a:t>pozitivan jon”(+ )  tj. atom je “ jonizovan</a:t>
            </a:r>
            <a:r>
              <a:rPr b="1" lang="en-US" sz="1200" spc="-1" strike="noStrike">
                <a:solidFill>
                  <a:srgbClr val="ff9900"/>
                </a:solidFill>
                <a:latin typeface="Times New Roman"/>
                <a:ea typeface="Microsoft YaHei"/>
              </a:rPr>
              <a:t>”</a:t>
            </a:r>
            <a:r>
              <a:rPr b="1" lang="sr-Latn-CS" sz="1200" spc="-1" strike="noStrike">
                <a:solidFill>
                  <a:srgbClr val="ff9900"/>
                </a:solidFill>
                <a:latin typeface="Times New Roman"/>
                <a:ea typeface="Microsoft YaHei"/>
              </a:rPr>
              <a:t> i sa izbačenim elektonom e(-)  predstavlja “jonski par”. </a:t>
            </a:r>
            <a:r>
              <a:rPr b="0" i="1" lang="sr-Latn-C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Ako se  ovaj proces dešava  u nekoj ćeliji tkiva, k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lang="sr-Latn-C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 </a:t>
            </a:r>
            <a:r>
              <a:rPr b="0" i="1" lang="sr-Latn-CS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posledica nastale jonizacije  pojavljuju se biološki efek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1B02E8-6CC3-43F6-A3F1-03333E15286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BD3A7-64E8-4DDD-8FAF-0FF7AFCF60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96E18-A839-4788-B5F3-118BBB2A23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латентна фаза (2-7 дана): без субјективних поремећаја, уништене  су само матичне ћелије радиосензитивних ткива, док диференциране функционишу до природне смр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манифестна фаза зависи директно од експозиционе дозе којом је организам озрачен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најмање дозе - никакви клинички манифестни поремећај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F6F0D7D-1D29-4D79-A427-1E9A2696CB6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2816B-B0C7-4B21-828F-4E8898ED267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E2A36D-7032-4580-B0F6-B8724B467E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1AF96-C7D5-403B-B40E-61A2707AA8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84C75-4C0B-410E-AB3F-BA211FF3D9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910BB5-3E19-414D-8792-521CCAD774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345BC5-1BED-4F91-A17D-9FBDE3C108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14C4D2-3E78-4A58-93DE-874D7D7706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6037F-3336-4FDD-B1DD-CA91F8C4F19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D34913-17DF-44F9-AEE8-07120F87D7C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95D17-91DE-4293-8A1D-B55279CFB4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D458F6-76A4-473A-B356-55F146FFF3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998A3-9A93-4E0B-BC8A-2BDEE522EC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855B4-B4FA-43FF-B25D-2AD9972BDBB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5A96C-C2C2-404D-BF9F-AD07DB4608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90F7E-28E2-4272-BD66-CEE33E0944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4338C1-861C-4BE7-A720-9B4C46B02F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1D6EF8-B012-4F42-B53E-EC8B2B25BE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2EB1BE-64BB-4E66-943C-DBE5B401C9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9EE64-A1B6-41FB-A6E6-AB23A65CCF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2CB6F-F596-4A29-985C-C9D5F737DD4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F54A7C-EF14-44AA-9B8A-B3A3993A221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1BBA9-5E62-4D8D-A1E0-90595A7983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70AAE-26ED-4730-9A34-39FC8A04D6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705CDC-9290-4217-BA85-1393364F48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FC1B1-6CF1-4B98-8AC2-97263DC193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9431D-9797-4A0F-A096-52B8346CD7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A0E85-B52F-4B25-9A6C-02231B7870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1C1A0-9F9A-43A2-BC5A-AEC6DE74B2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3EFA06-582A-411F-AF84-25CFB2F5449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5A0CC-6DF4-48C7-8139-021A3D3F5F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216000" indent="-216000"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2CCA0-BEF6-404B-9A02-A16E063435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0330D-DD0D-4643-915B-CE2CE697F5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70750-891C-4095-A7F7-D438FB304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CB620-4FC6-4CFA-9360-42058CF3E2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5D6F5-6CC0-4C2E-8468-7E19D83AEF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2EF23-75E7-450A-92DF-7BD6FF9230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65D24-AF88-4611-B532-2AAF8D5F7E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DC137-1460-472D-8F5A-C702F4B75E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12A60-D838-41D6-889B-722F5EFDDD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FDA65-D289-421F-B149-033EA3A7A1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9B86D-F162-438F-9591-DF86E180302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3ED99-AFD8-4142-B2E0-5895A4FD53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4BBBE-E582-4E3F-AB64-AB30857637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EA803-2F4A-4C34-A174-9512EAA72F9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DBFE8-3808-42CA-8340-C2AA52EEFB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6A05A-2A8D-439A-B31F-8A27B19ADA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A5749-2079-44A0-9DAC-6FBC528474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D8571-2DDC-4496-821E-3285C78CD70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04C2-D7CC-4357-A9EA-E9E4B5C00A3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6778-AF1F-41C8-8F82-DE362A8C003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B7B7-F8C4-4DB3-8295-5FC18FA9F35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7235-00BA-4734-AA7E-07741213F9F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3BF4-0DEB-4343-A4A2-41BB62A979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3EE02-C014-4B52-8DC6-5A4BF460FC2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4907-E326-4165-A114-69755A7DA71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B301-0EE1-45F4-BB91-30B5F4B8781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8B64-6180-43CE-8220-2D83209D466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807A-B0E9-4700-8941-7D1A5472CE9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686B-CD93-4E23-A7E4-DC1A78CEF71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4086-7805-48CD-9AD9-A07EC62FF2B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9BB6-A96F-4A86-AF58-47D96BFFA44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24ABA8-6A96-4409-A606-455CDE0CED6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16C2B-EDB2-4F98-B14C-08FA88C48E9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2073D-3700-43CF-8331-F59E410D84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6EC75-D7BE-49A0-A45A-E35532393BD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CF4E3-949A-4231-889F-2BE1B92104E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2C17E-75FC-4A85-A1EF-0A8870E47AF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16D3C-BCC3-49FF-8276-5D88BB2F652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CA7CF2-5538-4EF0-9AD7-715A6A97C21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722CDB-D644-4237-9B25-0EEB6EB32F6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0A5FD-E882-44E8-8CB8-2EB3ADA1702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C80F81-2B21-4A11-AD63-C51A661DFE0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10AB3-F188-4DAD-963C-194E349FE32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8C5479-E60B-4695-8118-F8391259853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31372-7AF5-4B62-B2E7-B38BC8BFBA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75E7E-4B08-4535-9319-62F993E83ED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0E99B-1D1B-4FC8-ADD8-3AC10DDBDC2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F83AC-90C2-4143-8FB6-1A2AA6243CA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F20A7-1D73-4A6D-B094-C390EFA2395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9405A-D8C1-46F2-852D-49D4F52BBAF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C5F1B2-7C08-47D4-AF05-C51FCA018B6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7745C-C4AE-42B2-8F7B-667FF69C242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C71BD-19C0-4F41-AF68-D0DB9894BD9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33B73-A57F-400E-BA9D-5BBE4C35E18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90C55-35AE-45E9-B7D3-B142598D6FB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994AD-CAA7-43DD-9C0C-284ABCC019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CCA40-E64E-47E9-B2F7-2EBCAC325A5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D2DF2-19BC-4EEA-BFA6-4AFB19BABD2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2806-6966-4BFB-A18B-ED6616A824D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76F3-6516-4047-AAA5-DCEE215B3F90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C36BA-D1DF-49C9-9C07-4C6712DE6FD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459B-2D00-46C2-87CE-7FE45490B4E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5EEBC-A1BD-4915-B41B-5A3E0A7F89B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0FDF-A842-46C9-9ADE-1F3D702A026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D8DE-72D0-4535-A709-336BF5CF6CE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5B59-9860-4A7F-BDBE-256B1A21F47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48A5-A667-4D49-9AB1-9A6BD238A4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4C0E2-4022-4219-8666-EBA0BAEF8BC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105BF-4FAC-43E8-BBAE-7BCA136888B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4DDC-1205-4E9B-96A2-F416BADE762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023D-7111-47D1-86CA-BC4AFF1744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BBA67-0F78-4007-97C7-5FA86B0730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F998E-F577-4326-938E-C1BA27F06B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Freeform 2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-12600" y="5784840"/>
            <a:ext cx="3413160" cy="1090800"/>
            <a:chOff x="-12600" y="5784840"/>
            <a:chExt cx="3413160" cy="1090800"/>
          </a:xfrm>
        </p:grpSpPr>
        <p:pic>
          <p:nvPicPr>
            <p:cNvPr id="3" name="Picture 4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316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5"/>
            <p:cNvSpPr/>
            <p:nvPr/>
          </p:nvSpPr>
          <p:spPr>
            <a:xfrm>
              <a:off x="277920" y="6421320"/>
              <a:ext cx="1698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Text Box 9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Text Box 10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sldNum" idx="1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A00238-E863-4B5C-BD63-4990A566046B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1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Freeform 2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9" name="Group 3"/>
          <p:cNvGrpSpPr/>
          <p:nvPr/>
        </p:nvGrpSpPr>
        <p:grpSpPr>
          <a:xfrm>
            <a:off x="-12600" y="5784840"/>
            <a:ext cx="3413160" cy="1090800"/>
            <a:chOff x="-12600" y="5784840"/>
            <a:chExt cx="3413160" cy="1090800"/>
          </a:xfrm>
        </p:grpSpPr>
        <p:pic>
          <p:nvPicPr>
            <p:cNvPr id="50" name="Picture 4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316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5"/>
            <p:cNvSpPr/>
            <p:nvPr/>
          </p:nvSpPr>
          <p:spPr>
            <a:xfrm>
              <a:off x="277920" y="6421320"/>
              <a:ext cx="1698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52" name="Picture 6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2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4F5AFD-6D5A-478F-879A-2F65004D6269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reeform 1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Freeform 2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-12600" y="5784840"/>
            <a:ext cx="3413160" cy="1090800"/>
            <a:chOff x="-12600" y="5784840"/>
            <a:chExt cx="3413160" cy="1090800"/>
          </a:xfrm>
        </p:grpSpPr>
        <p:pic>
          <p:nvPicPr>
            <p:cNvPr id="97" name="Picture 4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316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5"/>
            <p:cNvSpPr/>
            <p:nvPr/>
          </p:nvSpPr>
          <p:spPr>
            <a:xfrm>
              <a:off x="277920" y="6421320"/>
              <a:ext cx="1698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99" name="Picture 6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D4F940-54D3-47A7-B359-91BB40448349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1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Freeform 2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3" name="Group 3"/>
          <p:cNvGrpSpPr/>
          <p:nvPr/>
        </p:nvGrpSpPr>
        <p:grpSpPr>
          <a:xfrm>
            <a:off x="-12600" y="5784840"/>
            <a:ext cx="3413160" cy="1090800"/>
            <a:chOff x="-12600" y="5784840"/>
            <a:chExt cx="3413160" cy="1090800"/>
          </a:xfrm>
        </p:grpSpPr>
        <p:pic>
          <p:nvPicPr>
            <p:cNvPr id="144" name="Picture 4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3160" cy="109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5"/>
            <p:cNvSpPr/>
            <p:nvPr/>
          </p:nvSpPr>
          <p:spPr>
            <a:xfrm>
              <a:off x="277920" y="6421320"/>
              <a:ext cx="1698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pic>
        <p:nvPicPr>
          <p:cNvPr id="146" name="Picture 6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Num" idx="4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C80047-B209-45DB-9398-06FCCBE492DC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1"/>
          <p:cNvSpPr/>
          <p:nvPr/>
        </p:nvSpPr>
        <p:spPr>
          <a:xfrm>
            <a:off x="0" y="4664160"/>
            <a:ext cx="9150480" cy="144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13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080" bIns="-4608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89" name="Group 2"/>
          <p:cNvGrpSpPr/>
          <p:nvPr/>
        </p:nvGrpSpPr>
        <p:grpSpPr>
          <a:xfrm>
            <a:off x="-3240" y="4952880"/>
            <a:ext cx="9145800" cy="1909800"/>
            <a:chOff x="-3240" y="4952880"/>
            <a:chExt cx="9145800" cy="1909800"/>
          </a:xfrm>
        </p:grpSpPr>
        <p:sp>
          <p:nvSpPr>
            <p:cNvPr id="190" name="Freeform 3"/>
            <p:cNvSpPr/>
            <p:nvPr/>
          </p:nvSpPr>
          <p:spPr>
            <a:xfrm>
              <a:off x="1693800" y="4952880"/>
              <a:ext cx="7442280" cy="484200"/>
            </a:xfrm>
            <a:custGeom>
              <a:avLst/>
              <a:gdLst>
                <a:gd name="textAreaLeft" fmla="*/ 0 w 7442280"/>
                <a:gd name="textAreaRight" fmla="*/ 7442640 w 744228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Freeform 4"/>
            <p:cNvSpPr/>
            <p:nvPr/>
          </p:nvSpPr>
          <p:spPr>
            <a:xfrm>
              <a:off x="46080" y="5235480"/>
              <a:ext cx="9091440" cy="784440"/>
            </a:xfrm>
            <a:custGeom>
              <a:avLst/>
              <a:gdLst>
                <a:gd name="textAreaLeft" fmla="*/ 0 w 9091440"/>
                <a:gd name="textAreaRight" fmla="*/ 9091440 w 9091440"/>
                <a:gd name="textAreaTop" fmla="*/ 0 h 784440"/>
                <a:gd name="textAreaBottom" fmla="*/ 784800 h 7844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92" name="Group 5"/>
            <p:cNvGrpSpPr/>
            <p:nvPr/>
          </p:nvGrpSpPr>
          <p:grpSpPr>
            <a:xfrm>
              <a:off x="3240" y="4992840"/>
              <a:ext cx="9139320" cy="1869840"/>
              <a:chOff x="3240" y="4992840"/>
              <a:chExt cx="9139320" cy="1869840"/>
            </a:xfrm>
          </p:grpSpPr>
          <p:pic>
            <p:nvPicPr>
              <p:cNvPr id="193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" y="4992840"/>
                <a:ext cx="9139320" cy="186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Text Box 7"/>
              <p:cNvSpPr/>
              <p:nvPr/>
            </p:nvSpPr>
            <p:spPr>
              <a:xfrm>
                <a:off x="936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pPr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pic>
          <p:nvPicPr>
            <p:cNvPr id="195" name="Picture 8" descr=""/>
            <p:cNvPicPr/>
            <p:nvPr/>
          </p:nvPicPr>
          <p:blipFill>
            <a:blip r:embed="rId3"/>
            <a:stretch/>
          </p:blipFill>
          <p:spPr>
            <a:xfrm>
              <a:off x="-3240" y="4986360"/>
              <a:ext cx="9145800" cy="81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Num" idx="5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D0CED9-DDF9-4AA0-A04B-15A5D5B7BF67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BCF79E-25C0-4F6E-8955-D7B532B88614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png"/><Relationship Id="rId6" Type="http://schemas.openxmlformats.org/officeDocument/2006/relationships/image" Target="../media/image45.png"/><Relationship Id="rId7" Type="http://schemas.openxmlformats.org/officeDocument/2006/relationships/slideLayout" Target="../slideLayouts/slideLayout37.xml"/><Relationship Id="rId8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71280" y="1700280"/>
            <a:ext cx="7281720" cy="26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200" spc="-1" strike="noStrike">
                <a:solidFill>
                  <a:srgbClr val="464646"/>
                </a:solidFill>
                <a:latin typeface="Lucida Sans Unicode"/>
              </a:rPr>
              <a:t>Биолошки ефекти зрачења</a:t>
            </a:r>
            <a:br>
              <a:rPr sz="4200"/>
            </a:br>
            <a:r>
              <a:rPr b="1" lang="en-US" sz="4200" spc="-1" strike="noStrike">
                <a:solidFill>
                  <a:srgbClr val="464646"/>
                </a:solidFill>
                <a:latin typeface="Lucida Sans Unicode"/>
              </a:rPr>
              <a:t>Заштита од зрачења</a:t>
            </a:r>
            <a:br>
              <a:rPr sz="4200"/>
            </a:br>
            <a:r>
              <a:rPr b="1" lang="en-US" sz="4200" spc="-1" strike="noStrike">
                <a:solidFill>
                  <a:srgbClr val="464646"/>
                </a:solidFill>
                <a:latin typeface="Lucida Sans Unicode"/>
              </a:rPr>
              <a:t>Дозе и јединице зрачења</a:t>
            </a:r>
            <a:endParaRPr b="1" lang="en-US" sz="42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RS" sz="3700" spc="-1" strike="noStrike">
                <a:solidFill>
                  <a:srgbClr val="464646"/>
                </a:solidFill>
                <a:latin typeface="Lucida Sans Unicode"/>
              </a:rPr>
              <a:t>Четврта фаза-биолошки ефекти</a:t>
            </a: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76280" y="17002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стали јони и слободни радикали реагују међусобно и са оближњим атомима и молекулима, тако долази до хемијских промена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spcBef>
                <a:spcPts val="4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 живој материји након хемијских следе биолошке промене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spcBef>
                <a:spcPts val="4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Биолошке промене настају после неколико секунди или више деценија. Могу одмах уништити или изменити ћелију на добар, лош или неутралан начин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88920" y="1414440"/>
            <a:ext cx="896472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Latn-CS" sz="2700" spc="-1" strike="noStrike">
                <a:solidFill>
                  <a:srgbClr val="ff8119"/>
                </a:solidFill>
                <a:latin typeface="Arial"/>
                <a:ea typeface="Arial"/>
              </a:rPr>
              <a:t>“</a:t>
            </a:r>
            <a:r>
              <a:rPr b="0" lang="sr-RS" sz="2400" spc="-1" strike="noStrike">
                <a:solidFill>
                  <a:srgbClr val="ff8119"/>
                </a:solidFill>
                <a:latin typeface="Arial"/>
                <a:ea typeface="Arial"/>
              </a:rPr>
              <a:t>Теорија</a:t>
            </a:r>
            <a:r>
              <a:rPr b="0" lang="sr-Latn-CS" sz="2400" spc="-1" strike="noStrike">
                <a:solidFill>
                  <a:srgbClr val="ff8119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ff8119"/>
                </a:solidFill>
                <a:latin typeface="Arial"/>
                <a:ea typeface="Arial"/>
              </a:rPr>
              <a:t>мет</a:t>
            </a:r>
            <a:r>
              <a:rPr b="0" lang="sr-Latn-CS" sz="2400" spc="-1" strike="noStrike">
                <a:solidFill>
                  <a:srgbClr val="ff8119"/>
                </a:solidFill>
                <a:latin typeface="Arial"/>
                <a:ea typeface="Arial"/>
              </a:rPr>
              <a:t>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”-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еф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ка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наста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сам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случај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директ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инте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еакц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виталн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дело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ћел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једр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–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хр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зом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ензим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↓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Ј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З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ДН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цепа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ланц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мут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Ензим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 -S-H   (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оксида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 →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нефункционал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-H (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прекид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) →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нефункционал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Протеи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поремећај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редослед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ами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кисели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→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денатура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пропада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ћели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800" spc="-1" strike="noStrike">
                <a:solidFill>
                  <a:srgbClr val="464646"/>
                </a:solidFill>
                <a:latin typeface="Lucida Sans Unicode"/>
              </a:rPr>
              <a:t>Директно дејство</a:t>
            </a:r>
            <a:endParaRPr b="1" lang="en-US" sz="38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1"/>
          <p:cNvSpPr/>
          <p:nvPr/>
        </p:nvSpPr>
        <p:spPr>
          <a:xfrm>
            <a:off x="395280" y="47628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 algn="just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Оштећење двоструког ланца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NK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 може да доведе до смрти соматске ћелије или у герминативној ћелији да доведе до мутације која се преноси на све ћелије новог организма и да се искаже као наследни поремећај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Хромозомске аберације (делеције, инверзије, транслокације)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Text Box 2"/>
          <p:cNvSpPr/>
          <p:nvPr/>
        </p:nvSpPr>
        <p:spPr>
          <a:xfrm>
            <a:off x="61128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1"/>
          <p:cNvSpPr/>
          <p:nvPr/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Молекули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воде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су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ајзаступљенији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живој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материји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(85%).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Велика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је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вероватноћа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да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ће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молекули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воде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рви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да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ступе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нтеракцију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са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рачењем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естабилна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конфигурација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еспарен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електрон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оследњој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орбити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)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омогућава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ове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хемијске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реакције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веза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међу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макромолекулима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Радиолизом воде долази до стварања изузетно реактивних једињењатј. </a:t>
            </a:r>
            <a:r>
              <a:rPr b="0" i="1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СЛОБОДНИХ РАДИКАЛА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од којих је хидроксилни радикал снажни оксиданс,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а атом Н снажни редуктанс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8" name="Picture 3" descr=""/>
          <p:cNvPicPr/>
          <p:nvPr/>
        </p:nvPicPr>
        <p:blipFill>
          <a:blip r:embed="rId1"/>
          <a:stretch/>
        </p:blipFill>
        <p:spPr>
          <a:xfrm>
            <a:off x="7308720" y="4941720"/>
            <a:ext cx="1635120" cy="170676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Индиректно дејство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2"/>
          <a:stretch/>
        </p:blipFill>
        <p:spPr>
          <a:xfrm>
            <a:off x="684360" y="5373720"/>
            <a:ext cx="2444760" cy="5158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"/>
          <p:cNvPicPr/>
          <p:nvPr/>
        </p:nvPicPr>
        <p:blipFill>
          <a:blip r:embed="rId3"/>
          <a:stretch/>
        </p:blipFill>
        <p:spPr>
          <a:xfrm>
            <a:off x="3608280" y="5373720"/>
            <a:ext cx="3700440" cy="51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100"/>
            </a:b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2. Секундарни ефeкти</a:t>
            </a:r>
            <a:br>
              <a:rPr sz="4100"/>
            </a:b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6840" y="1481040"/>
            <a:ext cx="843588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4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биохемијске и патофизиолошке промене у ћелијама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4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RS" sz="2300" spc="-1" strike="noStrike">
                <a:solidFill>
                  <a:srgbClr val="000000"/>
                </a:solidFill>
                <a:latin typeface="Lucida Sans Unicode"/>
              </a:rPr>
              <a:t>Повећана  пропустљивост ћелијске мембране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4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RS" sz="2300" spc="-1" strike="noStrike">
                <a:solidFill>
                  <a:srgbClr val="000000"/>
                </a:solidFill>
                <a:latin typeface="Lucida Sans Unicode"/>
              </a:rPr>
              <a:t>Инхибиција оксидативне фосфорилације у митохондријама и једру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4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RS" sz="2300" spc="-1" strike="noStrike">
                <a:solidFill>
                  <a:srgbClr val="000000"/>
                </a:solidFill>
                <a:latin typeface="Lucida Sans Unicode"/>
              </a:rPr>
              <a:t>Ремети се процес митозе ћелија →до прекида деобе ћелија,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4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R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RS" sz="2300" spc="-1" strike="noStrike">
                <a:solidFill>
                  <a:srgbClr val="000000"/>
                </a:solidFill>
                <a:latin typeface="Lucida Sans Unicode"/>
              </a:rPr>
              <a:t>пикноза и кариолиза ћелија → до смрти ћелије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R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64646"/>
                </a:solidFill>
                <a:latin typeface="Lucida Sans Unicode"/>
              </a:rPr>
              <a:t>Радијационо оштећење ћелије</a:t>
            </a:r>
            <a:endParaRPr b="1" lang="en-US" sz="3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46120" y="1196640"/>
            <a:ext cx="80503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5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Latn-RS" sz="2500" spc="-1" strike="noStrike">
                <a:solidFill>
                  <a:srgbClr val="000000"/>
                </a:solidFill>
                <a:latin typeface="Lucida Sans Unicode"/>
              </a:rPr>
              <a:t>G1</a:t>
            </a:r>
            <a:r>
              <a:rPr b="0" lang="sr-RS" sz="2500" spc="-1" strike="noStrike">
                <a:solidFill>
                  <a:srgbClr val="000000"/>
                </a:solidFill>
                <a:latin typeface="Lucida Sans Unicode"/>
              </a:rPr>
              <a:t> фаза има најразличитију дужину од свих фаза ћелијског циклуса. За већину ћелијских линија ћелије које имају кратку </a:t>
            </a:r>
            <a:r>
              <a:rPr b="0" lang="sr-Latn-RS" sz="2500" spc="-1" strike="noStrike">
                <a:solidFill>
                  <a:srgbClr val="000000"/>
                </a:solidFill>
                <a:latin typeface="Lucida Sans Unicode"/>
              </a:rPr>
              <a:t>G1</a:t>
            </a:r>
            <a:r>
              <a:rPr b="0" lang="sr-RS" sz="2500" spc="-1" strike="noStrike">
                <a:solidFill>
                  <a:srgbClr val="000000"/>
                </a:solidFill>
                <a:latin typeface="Lucida Sans Unicode"/>
              </a:rPr>
              <a:t>фазу најосетљивије су на у </a:t>
            </a:r>
            <a:r>
              <a:rPr b="0" lang="sr-Latn-RS" sz="2500" spc="-1" strike="noStrike">
                <a:solidFill>
                  <a:srgbClr val="000000"/>
                </a:solidFill>
                <a:latin typeface="Lucida Sans Unicode"/>
              </a:rPr>
              <a:t>G2</a:t>
            </a:r>
            <a:r>
              <a:rPr b="0" lang="sr-RS" sz="2500" spc="-1" strike="noStrike">
                <a:solidFill>
                  <a:srgbClr val="000000"/>
                </a:solidFill>
                <a:latin typeface="Lucida Sans Unicode"/>
              </a:rPr>
              <a:t> фази и митози, мање осетљиве </a:t>
            </a:r>
            <a:r>
              <a:rPr b="0" lang="sr-Latn-RS" sz="2500" spc="-1" strike="noStrike">
                <a:solidFill>
                  <a:srgbClr val="000000"/>
                </a:solidFill>
                <a:latin typeface="Lucida Sans Unicode"/>
              </a:rPr>
              <a:t>G</a:t>
            </a:r>
            <a:r>
              <a:rPr b="0" lang="sr-RS" sz="2500" spc="-1" strike="noStrike">
                <a:solidFill>
                  <a:srgbClr val="000000"/>
                </a:solidFill>
                <a:latin typeface="Lucida Sans Unicode"/>
              </a:rPr>
              <a:t>1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26" name="Picture 4" descr=""/>
          <p:cNvPicPr/>
          <p:nvPr/>
        </p:nvPicPr>
        <p:blipFill>
          <a:blip r:embed="rId1"/>
          <a:stretch/>
        </p:blipFill>
        <p:spPr>
          <a:xfrm>
            <a:off x="903240" y="4149720"/>
            <a:ext cx="2660760" cy="27162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" descr=""/>
          <p:cNvPicPr/>
          <p:nvPr/>
        </p:nvPicPr>
        <p:blipFill>
          <a:blip r:embed="rId2"/>
          <a:stretch/>
        </p:blipFill>
        <p:spPr>
          <a:xfrm>
            <a:off x="4284720" y="4292640"/>
            <a:ext cx="420048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1"/>
          <p:cNvSpPr/>
          <p:nvPr/>
        </p:nvSpPr>
        <p:spPr>
          <a:xfrm>
            <a:off x="457200" y="272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457200" y="668160"/>
            <a:ext cx="4040280" cy="762120"/>
          </a:xfrm>
          <a:prstGeom prst="rect">
            <a:avLst/>
          </a:prstGeom>
          <a:solidFill>
            <a:srgbClr val="2da2bf"/>
          </a:solidFill>
          <a:ln cap="sq" w="972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Радиосензитивна тки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457200" y="1444680"/>
            <a:ext cx="4040280" cy="3941640"/>
          </a:xfrm>
          <a:prstGeom prst="rect">
            <a:avLst/>
          </a:prstGeom>
          <a:noFill/>
          <a:ln cap="sq" w="19080">
            <a:solidFill>
              <a:srgbClr val="00b0f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Нискодиференцир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Висок</a:t>
            </a:r>
            <a:r>
              <a:rPr b="0" lang="nn-NO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митотски</a:t>
            </a:r>
            <a:r>
              <a:rPr b="0" lang="nn-NO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индек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Веома</a:t>
            </a:r>
            <a:r>
              <a:rPr b="0" lang="nn-NO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метаболички</a:t>
            </a:r>
            <a:r>
              <a:rPr b="0" lang="nn-NO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акти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4672080" y="662040"/>
            <a:ext cx="4041720" cy="762120"/>
          </a:xfrm>
          <a:prstGeom prst="rect">
            <a:avLst/>
          </a:prstGeom>
          <a:solidFill>
            <a:srgbClr val="2da2bf"/>
          </a:solidFill>
          <a:ln cap="sq" w="972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Радиорезистентна тки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4645080" y="1444680"/>
            <a:ext cx="4194000" cy="3941640"/>
          </a:xfrm>
          <a:prstGeom prst="rect">
            <a:avLst/>
          </a:prstGeom>
          <a:noFill/>
          <a:ln cap="sq" w="19080">
            <a:solidFill>
              <a:srgbClr val="00b0f0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Високодиференцир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5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Низак митотски индек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3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ВЕЛИКЕ ДОЗЕ-последице соматске и одмах уочљиве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МАЛЕ ДОЗЕ: последице касне и неизвесне до последњег тренутка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539640" y="2286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"/>
          <p:cNvPicPr/>
          <p:nvPr/>
        </p:nvPicPr>
        <p:blipFill>
          <a:blip r:embed="rId2"/>
          <a:stretch/>
        </p:blipFill>
        <p:spPr>
          <a:xfrm>
            <a:off x="3048120" y="2057400"/>
            <a:ext cx="2133360" cy="210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1"/>
          <p:cNvSpPr/>
          <p:nvPr/>
        </p:nvSpPr>
        <p:spPr>
          <a:xfrm>
            <a:off x="250920" y="1217520"/>
            <a:ext cx="8435880" cy="54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Lucida Sans Unicode"/>
              </a:rPr>
              <a:t>Доза озрачењ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Lucida Sans Unicode"/>
              </a:rPr>
              <a:t>Брзина и временски распоред доз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Lucida Sans Unicode"/>
              </a:rPr>
              <a:t>Просторни распоред дозе: (спољашње/ унутрашње; тотално/локално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Lucida Sans Unicode"/>
              </a:rPr>
              <a:t>Површина тела изложена зрачењ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Lucida Sans Unicode"/>
              </a:rPr>
              <a:t>Врста јонизујућег зрачењ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Lucida Sans Unicode"/>
              </a:rPr>
              <a:t>Радиосензитивност (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радиосензитивност ћелије и индивидуална радиосензитивност</a:t>
            </a:r>
            <a:r>
              <a:rPr b="0" lang="sr-CS" sz="28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RS" sz="3700" spc="-1" strike="noStrike">
                <a:solidFill>
                  <a:srgbClr val="464646"/>
                </a:solidFill>
                <a:latin typeface="Lucida Sans Unicode"/>
              </a:rPr>
              <a:t>Фактори који детермнишу биолошке ефекте</a:t>
            </a: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64646"/>
                </a:solidFill>
                <a:latin typeface="Lucida Sans Unicode"/>
              </a:rPr>
              <a:t>Ефективно време полураспада</a:t>
            </a:r>
            <a:endParaRPr b="1" lang="en-US" sz="3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Lucida Sans Unicode"/>
              </a:rPr>
              <a:t>Време да се активност радионуклида унетог у биолошки систем смањи на половину због радиоактивног распада и биолошке елиминациј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40" name="Picture 4" descr=""/>
          <p:cNvPicPr/>
          <p:nvPr/>
        </p:nvPicPr>
        <p:blipFill>
          <a:blip r:embed="rId1"/>
          <a:stretch/>
        </p:blipFill>
        <p:spPr>
          <a:xfrm>
            <a:off x="2916360" y="3768840"/>
            <a:ext cx="2363760" cy="155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179280" y="1481040"/>
            <a:ext cx="8856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Јонизујуће зрачење је електромагнетно или честично зрачење које може да јонизује материју и изазове оштећење ћелија живих организама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Процес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у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ком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нарушавамо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стабилност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електронског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омотач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зовемо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јонизацијом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Пр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јонизациј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добијамо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слободан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електрон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позитивно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наелектрисан</a:t>
            </a:r>
            <a:r>
              <a:rPr b="0" lang="fi-FI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остатак</a:t>
            </a:r>
            <a:r>
              <a:rPr b="0" lang="fi-FI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атома</a:t>
            </a:r>
            <a:r>
              <a:rPr b="0" lang="fi-FI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или</a:t>
            </a:r>
            <a:r>
              <a:rPr b="0" lang="fi-FI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јон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Минимална потребна енергија је око 10 eV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8" name="Picture 3" descr=""/>
          <p:cNvPicPr/>
          <p:nvPr/>
        </p:nvPicPr>
        <p:blipFill>
          <a:blip r:embed="rId1"/>
          <a:stretch/>
        </p:blipFill>
        <p:spPr>
          <a:xfrm>
            <a:off x="8001000" y="57150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464646"/>
                </a:solidFill>
                <a:latin typeface="Lucida Sans Unicode"/>
              </a:rPr>
              <a:t>Шта је јонизујуће зрачење?</a:t>
            </a:r>
            <a:endParaRPr b="1" lang="en-US" sz="40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457200" y="1415880"/>
            <a:ext cx="8086680" cy="53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8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157400"/>
                <a:tab algn="l" pos="2071800"/>
                <a:tab algn="l" pos="2986200"/>
                <a:tab algn="l" pos="3900600"/>
                <a:tab algn="l" pos="4815000"/>
                <a:tab algn="l" pos="5729400"/>
                <a:tab algn="l" pos="6643800"/>
                <a:tab algn="l" pos="7558200"/>
                <a:tab algn="l" pos="8472600"/>
                <a:tab algn="l" pos="9387000"/>
                <a:tab algn="l" pos="10301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609480" indent="-6080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157400"/>
                <a:tab algn="l" pos="2071800"/>
                <a:tab algn="l" pos="2986200"/>
                <a:tab algn="l" pos="3900600"/>
                <a:tab algn="l" pos="4815000"/>
                <a:tab algn="l" pos="5729400"/>
                <a:tab algn="l" pos="6643800"/>
                <a:tab algn="l" pos="7558200"/>
                <a:tab algn="l" pos="8472600"/>
                <a:tab algn="l" pos="9387000"/>
                <a:tab algn="l" pos="10301400"/>
                <a:tab algn="l" pos="105156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Скуп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накова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симптома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спољених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току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шестонедељног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ериода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осле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озрачивања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Lucida Sans Unicode"/>
                <a:ea typeface="Arial"/>
              </a:rPr>
              <a:t>целог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 u="sng">
                <a:solidFill>
                  <a:srgbClr val="000000"/>
                </a:solidFill>
                <a:uFillTx/>
                <a:latin typeface="Lucida Sans Unicode"/>
                <a:ea typeface="Arial"/>
              </a:rPr>
              <a:t>тела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дозом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већом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Lucida Sans Unicode"/>
                <a:ea typeface="Arial"/>
              </a:rPr>
              <a:t>0,5 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Lucida Sans Unicode"/>
                <a:ea typeface="Arial"/>
              </a:rPr>
              <a:t>Gy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у кратком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временском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ериоду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еколико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сати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ајдуже 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1-2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дана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80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157400"/>
                <a:tab algn="l" pos="2071800"/>
                <a:tab algn="l" pos="2986200"/>
                <a:tab algn="l" pos="3900600"/>
                <a:tab algn="l" pos="4815000"/>
                <a:tab algn="l" pos="5729400"/>
                <a:tab algn="l" pos="6643800"/>
                <a:tab algn="l" pos="7558200"/>
                <a:tab algn="l" pos="8472600"/>
                <a:tab algn="l" pos="9387000"/>
                <a:tab algn="l" pos="10301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804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157400"/>
                <a:tab algn="l" pos="2071800"/>
                <a:tab algn="l" pos="2986200"/>
                <a:tab algn="l" pos="3900600"/>
                <a:tab algn="l" pos="4815000"/>
                <a:tab algn="l" pos="5729400"/>
                <a:tab algn="l" pos="6643800"/>
                <a:tab algn="l" pos="7558200"/>
                <a:tab algn="l" pos="8472600"/>
                <a:tab algn="l" pos="9387000"/>
                <a:tab algn="l" pos="10301400"/>
                <a:tab algn="l" pos="105156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Хематопоезни</a:t>
            </a:r>
            <a:r>
              <a:rPr b="0" lang="sr-Latn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систем</a:t>
            </a:r>
            <a:r>
              <a:rPr b="0" lang="sr-Latn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-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јако</a:t>
            </a:r>
            <a:r>
              <a:rPr b="0" lang="sr-Latn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осетљив</a:t>
            </a:r>
            <a:r>
              <a:rPr b="0" lang="sr-Latn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804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157400"/>
                <a:tab algn="l" pos="2071800"/>
                <a:tab algn="l" pos="2986200"/>
                <a:tab algn="l" pos="3900600"/>
                <a:tab algn="l" pos="4815000"/>
                <a:tab algn="l" pos="5729400"/>
                <a:tab algn="l" pos="6643800"/>
                <a:tab algn="l" pos="7558200"/>
                <a:tab algn="l" pos="8472600"/>
                <a:tab algn="l" pos="9387000"/>
                <a:tab algn="l" pos="10301400"/>
                <a:tab algn="l" pos="105156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Лимфоцит</a:t>
            </a:r>
            <a:r>
              <a:rPr b="0" lang="sr-Latn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-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ајосетљивија</a:t>
            </a:r>
            <a:r>
              <a:rPr b="0" lang="sr-Latn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рела</a:t>
            </a:r>
            <a:r>
              <a:rPr b="0" lang="sr-Latn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ће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804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157400"/>
                <a:tab algn="l" pos="2071800"/>
                <a:tab algn="l" pos="2986200"/>
                <a:tab algn="l" pos="3900600"/>
                <a:tab algn="l" pos="4815000"/>
                <a:tab algn="l" pos="5729400"/>
                <a:tab algn="l" pos="6643800"/>
                <a:tab algn="l" pos="7558200"/>
                <a:tab algn="l" pos="8472600"/>
                <a:tab algn="l" pos="9387000"/>
                <a:tab algn="l" pos="10301400"/>
                <a:tab algn="l" pos="105156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Респираторни систем и ГИТ-</a:t>
            </a:r>
            <a:r>
              <a:rPr b="0" lang="sr-Latn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ерозије</a:t>
            </a:r>
            <a:r>
              <a:rPr b="0" lang="sr-Latn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слузн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8040">
              <a:lnSpc>
                <a:spcPct val="100000"/>
              </a:lnSpc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1157400"/>
                <a:tab algn="l" pos="2071800"/>
                <a:tab algn="l" pos="2986200"/>
                <a:tab algn="l" pos="3900600"/>
                <a:tab algn="l" pos="4815000"/>
                <a:tab algn="l" pos="5729400"/>
                <a:tab algn="l" pos="6643800"/>
                <a:tab algn="l" pos="7558200"/>
                <a:tab algn="l" pos="8472600"/>
                <a:tab algn="l" pos="9387000"/>
                <a:tab algn="l" pos="10301400"/>
                <a:tab algn="l" pos="105156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Кожа</a:t>
            </a:r>
            <a:r>
              <a:rPr b="0" lang="sr-Latn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-</a:t>
            </a:r>
            <a:r>
              <a:rPr b="0" lang="sr-Latn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ропадање</a:t>
            </a:r>
            <a:r>
              <a:rPr b="0" lang="sr-Latn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фоликула</a:t>
            </a:r>
            <a:r>
              <a:rPr b="0" lang="sr-Latn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дла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8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157400"/>
                <a:tab algn="l" pos="2071800"/>
                <a:tab algn="l" pos="2986200"/>
                <a:tab algn="l" pos="3900600"/>
                <a:tab algn="l" pos="4815000"/>
                <a:tab algn="l" pos="5729400"/>
                <a:tab algn="l" pos="6643800"/>
                <a:tab algn="l" pos="7558200"/>
                <a:tab algn="l" pos="8472600"/>
                <a:tab algn="l" pos="9387000"/>
                <a:tab algn="l" pos="10301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-608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157400"/>
                <a:tab algn="l" pos="2071800"/>
                <a:tab algn="l" pos="2986200"/>
                <a:tab algn="l" pos="3900600"/>
                <a:tab algn="l" pos="4815000"/>
                <a:tab algn="l" pos="5729400"/>
                <a:tab algn="l" pos="6643800"/>
                <a:tab algn="l" pos="7558200"/>
                <a:tab algn="l" pos="8472600"/>
                <a:tab algn="l" pos="9387000"/>
                <a:tab algn="l" pos="10301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64646"/>
                </a:solidFill>
                <a:latin typeface="Lucida Sans Unicode"/>
              </a:rPr>
              <a:t>Акутни радијациони синдром</a:t>
            </a:r>
            <a:endParaRPr b="1" lang="en-US" sz="36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64646"/>
                </a:solidFill>
                <a:latin typeface="Lucida Sans Unicode"/>
              </a:rPr>
              <a:t>Клиничке манифестације</a:t>
            </a:r>
            <a:endParaRPr b="1" lang="en-US" sz="3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209240"/>
            <a:ext cx="8228160" cy="50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Продромална: 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после 2-24 сата: општа слабост, малаксалост, анорексија, наузеја, повраћање→сви симптоми престају за 2-3 дана.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Латентна:  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без симптома →2- 3 недеље, уништене  су само матичне ћелије радиосензитивних ткива, док диференциране функционишу до природне смрти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Фаза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клиничких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манифестација 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(манифестна фаза зависи директно од експозиционе дозе којом је организам озрачен)→  језа, грозница, висока температура,  тешко дисање, тахикардија, кожна и поткожна крварења, из десни, природних отвора: хеморагични,  гастроинтестинални или церебрални  синдром  -најчешће мешани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Крв: пад Ле,  Тр,  Ер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Фаза опоравка → више месеци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1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RS" sz="3700" spc="-1" strike="noStrike">
                <a:solidFill>
                  <a:srgbClr val="464646"/>
                </a:solidFill>
                <a:latin typeface="Lucida Sans Unicode"/>
              </a:rPr>
              <a:t>Акутни радијациони синдром</a:t>
            </a:r>
            <a:endParaRPr b="0" lang="en-US" sz="37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609480" y="1600200"/>
          <a:ext cx="7545600" cy="4449600"/>
        </p:xfrm>
        <a:graphic>
          <a:graphicData uri="http://schemas.openxmlformats.org/drawingml/2006/table">
            <a:tbl>
              <a:tblPr/>
              <a:tblGrid>
                <a:gridCol w="1886040"/>
                <a:gridCol w="1887480"/>
                <a:gridCol w="1886040"/>
                <a:gridCol w="1886040"/>
              </a:tblGrid>
              <a:tr h="44496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2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Lucida Sans Unicode"/>
                          <a:ea typeface="Arial"/>
                        </a:rPr>
                        <a:t>ДОЗ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2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Lucida Sans Unicode"/>
                          <a:ea typeface="Arial"/>
                        </a:rPr>
                        <a:t>Продромал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2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  <a:ea typeface="Arial"/>
                        </a:rPr>
                        <a:t>латент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2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Lucida Sans Unicode"/>
                          <a:ea typeface="Arial"/>
                        </a:rPr>
                        <a:t>манифестн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35972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2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1-3G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2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Губитак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апетит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,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мук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,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повраћањ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2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Оштећењ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ћелиј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у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крвоток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2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Инфекциј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49796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2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4-6G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2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Интензивно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повраћањ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,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малаксалост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,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замарањ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2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Оштећењ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ћелиј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костне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срж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2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Хеморагијски синдро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146960"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2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7-10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2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Дијаре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j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,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алопециј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2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Аплазиј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,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ацидоз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46800" bIns="46800" anchor="t">
                      <a:noAutofit/>
                    </a:bodyPr>
                    <a:p>
                      <a:pPr>
                        <a:lnSpc>
                          <a:spcPct val="128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Интоксикациј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–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ендогена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Lucida Sans Unicode"/>
                          <a:ea typeface="Arial"/>
                        </a:rPr>
                        <a:t>сепс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RS" sz="3700" spc="-1" strike="noStrike">
                <a:solidFill>
                  <a:srgbClr val="464646"/>
                </a:solidFill>
                <a:latin typeface="Lucida Sans Unicode"/>
              </a:rPr>
              <a:t>Хронични радијациони синдром</a:t>
            </a: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79280" y="1481040"/>
            <a:ext cx="88567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атофизиолошке промене и клиничка стања која могу настати након дуготрајног излагања организма малим дозама зрачења ( промене на изложеним деловима коже, катаракта, леукопенија и/или рефрактерна анемија, стерилитет, опадање косе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професионална експозициј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pr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: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Radiodermatitis chr- излагање малим дозама у току низа година → иреверзибилне промене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6326280" y="5691240"/>
            <a:ext cx="2359080" cy="12920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3" descr=""/>
          <p:cNvPicPr/>
          <p:nvPr/>
        </p:nvPicPr>
        <p:blipFill>
          <a:blip r:embed="rId2"/>
          <a:stretch/>
        </p:blipFill>
        <p:spPr>
          <a:xfrm>
            <a:off x="3003480" y="5818320"/>
            <a:ext cx="153216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64646"/>
                </a:solidFill>
                <a:latin typeface="Lucida Sans Unicode"/>
              </a:rPr>
              <a:t>Ефекти јонизујућег зрачења</a:t>
            </a:r>
            <a:endParaRPr b="1" lang="en-US" sz="3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57200" y="1481040"/>
            <a:ext cx="822816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4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Детерминистички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 (ефекти с прагом) су ефекти који се могу очекивати кад доза прекорачи неку, унапред познату вредност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140000"/>
              </a:lnSpc>
              <a:spcBef>
                <a:spcPts val="4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Lucida Sans Unicode"/>
              </a:rPr>
              <a:t>Стохастички</a:t>
            </a: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 (ефекти без прага) су ефекти за које не постоји праг, већ могу настати и при веома малој апсорбованој дози зрачења, теоријски при проласку само једног γ-фотона, ако при том дође до таквих промена у грађи ДНК молекула, које се не могу поправити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457200" indent="-4572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1"/>
          <p:cNvSpPr/>
          <p:nvPr/>
        </p:nvSpPr>
        <p:spPr>
          <a:xfrm>
            <a:off x="457200" y="1481040"/>
            <a:ext cx="8458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•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Дозно зависни поремећаји радиосензитивних ткива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8000"/>
              <a:buFont typeface="Arial"/>
              <a:buChar char="•"/>
              <a:tabLst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мају праг, озбиљност зависи од примењене дозе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Стерилитет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К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атаракта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"/>
              <a:tabLst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О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штећења коже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3720" y="2599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RS" sz="3700" spc="-1" strike="noStrike">
                <a:solidFill>
                  <a:srgbClr val="464646"/>
                </a:solidFill>
                <a:latin typeface="Lucida Sans Unicode"/>
              </a:rPr>
              <a:t>Детерминистички (нестохастички) ефекти</a:t>
            </a: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55" name="Picture 4" descr=""/>
          <p:cNvPicPr/>
          <p:nvPr/>
        </p:nvPicPr>
        <p:blipFill>
          <a:blip r:embed="rId1"/>
          <a:stretch/>
        </p:blipFill>
        <p:spPr>
          <a:xfrm>
            <a:off x="6219720" y="4807080"/>
            <a:ext cx="278136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Стохастички ефекти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7200" y="1481040"/>
            <a:ext cx="822816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Lucida Sans Unicode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емају праг, видљиви након дужег периода, озбиљност не зависи од примљене дозе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К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арциноми, леукемије, генетске промене, наследне болести</a:t>
            </a:r>
            <a:r>
              <a:rPr b="0" lang="hr-HR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58" name="Picture 5" descr=""/>
          <p:cNvPicPr/>
          <p:nvPr/>
        </p:nvPicPr>
        <p:blipFill>
          <a:blip r:embed="rId1"/>
          <a:stretch/>
        </p:blipFill>
        <p:spPr>
          <a:xfrm>
            <a:off x="6286680" y="4500720"/>
            <a:ext cx="258264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RS" sz="3700" spc="-1" strike="noStrike">
                <a:solidFill>
                  <a:srgbClr val="464646"/>
                </a:solidFill>
                <a:latin typeface="Lucida Sans Unicode"/>
              </a:rPr>
              <a:t>Стохастички ефекти-онкогенеза</a:t>
            </a: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Природна и вештачка радиоактивност као фактор ризика у онкогенези учествује са свега 3%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Дуготрајан процес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Промене на нивоу онкогена (доминантних гена) проузрокују малигну трансформацију ћелије, а промене на нивоу антионкогена доводе до губитка способности ћелије да се супротстави малигној трансформациј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34880" y="18900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Lucida Sans Unicode"/>
              </a:rPr>
              <a:t>Након интеракције са јонизујућим зрачењем ћелија може да: </a:t>
            </a:r>
            <a:endParaRPr b="1" lang="en-US" sz="32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481040"/>
            <a:ext cx="8435880" cy="497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Прођ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без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оштећењ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(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сачуван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репродуктивн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способност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Сам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с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репарир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(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оштећењ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ћелиј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нем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ефект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н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организам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Мутира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утицај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н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генетско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кодирањ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ил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ДНК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Умре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леталн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озлед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губитак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репродуктивн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способност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500" spc="-1" strike="noStrike">
                <a:solidFill>
                  <a:srgbClr val="464646"/>
                </a:solidFill>
                <a:latin typeface="Lucida Sans Unicode"/>
              </a:rPr>
              <a:t>Трудноћа и излагање јонизујућем зрачењу</a:t>
            </a:r>
            <a:endParaRPr b="1" lang="en-US" sz="35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22280" y="1483920"/>
            <a:ext cx="8228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Одлука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о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прекиду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трудноће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је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индивидуална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зависи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од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много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фактора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Медицински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гледано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фетална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доза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испод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100 mGy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није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индикација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за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прекид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трудноће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За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дозу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мању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или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једнаку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100 mGy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се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не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очекује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настанак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малформација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а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ризик за настанак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канцера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изазваног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зрачењем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је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око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1:170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4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Ризик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добивања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канцера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у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току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живота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без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изложености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додатном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зрачењу износи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1:3</a:t>
            </a:r>
            <a:r>
              <a:rPr b="0" lang="sr-CS" sz="23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1720" y="189000"/>
            <a:ext cx="822960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64646"/>
                </a:solidFill>
                <a:latin typeface="Lucida Sans Unicode"/>
              </a:rPr>
              <a:t>Извори јонизујућег зрачења</a:t>
            </a:r>
            <a:endParaRPr b="1" lang="en-US" sz="3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87440" y="1267920"/>
            <a:ext cx="403704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RS" sz="2300" spc="-1" strike="noStrike">
                <a:solidFill>
                  <a:srgbClr val="000000"/>
                </a:solidFill>
                <a:latin typeface="Lucida Sans Unicode"/>
              </a:rPr>
              <a:t>Природни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Lucida Sans Unicode"/>
              </a:rPr>
              <a:t>-радионуклиди у литосфери, хидросфери, стенама, земљишту(</a:t>
            </a:r>
            <a:r>
              <a:rPr b="0" lang="sr-RS" sz="1800" spc="-1" strike="noStrike" baseline="30000">
                <a:solidFill>
                  <a:srgbClr val="000000"/>
                </a:solidFill>
                <a:latin typeface="Lucida Sans Unicode"/>
              </a:rPr>
              <a:t>235</a:t>
            </a:r>
            <a:r>
              <a:rPr b="0" lang="sr-Latn-RS" sz="1800" spc="-1" strike="noStrike">
                <a:solidFill>
                  <a:srgbClr val="000000"/>
                </a:solidFill>
                <a:latin typeface="Lucida Sans Unicode"/>
              </a:rPr>
              <a:t>U, </a:t>
            </a:r>
            <a:r>
              <a:rPr b="0" lang="sr-Latn-RS" sz="1800" spc="-1" strike="noStrike" baseline="30000">
                <a:solidFill>
                  <a:srgbClr val="000000"/>
                </a:solidFill>
                <a:latin typeface="Lucida Sans Unicode"/>
              </a:rPr>
              <a:t>238</a:t>
            </a:r>
            <a:r>
              <a:rPr b="0" lang="sr-Latn-RS" sz="1800" spc="-1" strike="noStrike">
                <a:solidFill>
                  <a:srgbClr val="000000"/>
                </a:solidFill>
                <a:latin typeface="Lucida Sans Unicode"/>
              </a:rPr>
              <a:t>U, </a:t>
            </a:r>
            <a:r>
              <a:rPr b="0" lang="sr-Latn-RS" sz="1800" spc="-1" strike="noStrike" baseline="30000">
                <a:solidFill>
                  <a:srgbClr val="000000"/>
                </a:solidFill>
                <a:latin typeface="Lucida Sans Unicode"/>
              </a:rPr>
              <a:t>232</a:t>
            </a:r>
            <a:r>
              <a:rPr b="0" lang="sr-Latn-RS" sz="1800" spc="-1" strike="noStrike">
                <a:solidFill>
                  <a:srgbClr val="000000"/>
                </a:solidFill>
                <a:latin typeface="Lucida Sans Unicode"/>
              </a:rPr>
              <a:t>Th, </a:t>
            </a:r>
            <a:r>
              <a:rPr b="0" lang="sr-Latn-RS" sz="1800" spc="-1" strike="noStrike" baseline="30000">
                <a:solidFill>
                  <a:srgbClr val="000000"/>
                </a:solidFill>
                <a:latin typeface="Lucida Sans Unicode"/>
              </a:rPr>
              <a:t>40</a:t>
            </a:r>
            <a:r>
              <a:rPr b="0" lang="sr-Latn-RS" sz="1800" spc="-1" strike="noStrike">
                <a:solidFill>
                  <a:srgbClr val="000000"/>
                </a:solidFill>
                <a:latin typeface="Lucida Sans Unicode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1800" spc="-1" strike="noStrike" baseline="30000">
                <a:solidFill>
                  <a:srgbClr val="000000"/>
                </a:solidFill>
                <a:latin typeface="Lucida Sans Unicode"/>
              </a:rPr>
              <a:t>222</a:t>
            </a:r>
            <a:r>
              <a:rPr b="0" lang="sr-Latn-RS" sz="1800" spc="-1" strike="noStrike">
                <a:solidFill>
                  <a:srgbClr val="000000"/>
                </a:solidFill>
                <a:latin typeface="Lucida Sans Unicode"/>
              </a:rPr>
              <a:t>Rn</a:t>
            </a:r>
            <a:r>
              <a:rPr b="0" lang="sr-RS" sz="1800" spc="-1" strike="noStrike">
                <a:solidFill>
                  <a:srgbClr val="000000"/>
                </a:solidFill>
                <a:latin typeface="Lucida Sans Unicode"/>
              </a:rPr>
              <a:t>-гас без укуса и мириса, 10х више у затвореним просторијама него на отвореном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Lucida Sans Unicode"/>
              </a:rPr>
              <a:t>-космичко зрачење –електрони, протони и језгра лакших елемената огромних енергиј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Lucida Sans Unicode"/>
              </a:rPr>
              <a:t>Интеракцијом космичког зрачења са компонентама атмосфере настају </a:t>
            </a:r>
            <a:r>
              <a:rPr b="0" lang="sr-RS" sz="1800" spc="-1" strike="noStrike" baseline="30000">
                <a:solidFill>
                  <a:srgbClr val="000000"/>
                </a:solidFill>
                <a:latin typeface="Lucida Sans Unicode"/>
              </a:rPr>
              <a:t>7</a:t>
            </a:r>
            <a:r>
              <a:rPr b="0" lang="sr-RS" sz="1800" spc="-1" strike="noStrike">
                <a:solidFill>
                  <a:srgbClr val="000000"/>
                </a:solidFill>
                <a:latin typeface="Lucida Sans Unicode"/>
              </a:rPr>
              <a:t>Ве, </a:t>
            </a:r>
            <a:r>
              <a:rPr b="0" lang="sr-RS" sz="1800" spc="-1" strike="noStrike" baseline="30000">
                <a:solidFill>
                  <a:srgbClr val="000000"/>
                </a:solidFill>
                <a:latin typeface="Lucida Sans Unicode"/>
              </a:rPr>
              <a:t>14</a:t>
            </a:r>
            <a:r>
              <a:rPr b="0" lang="sr-RS" sz="1800" spc="-1" strike="noStrike">
                <a:solidFill>
                  <a:srgbClr val="000000"/>
                </a:solidFill>
                <a:latin typeface="Lucida Sans Unicode"/>
              </a:rPr>
              <a:t>С, </a:t>
            </a:r>
            <a:r>
              <a:rPr b="0" lang="sr-RS" sz="1800" spc="-1" strike="noStrike" baseline="30000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sr-RS" sz="1800" spc="-1" strike="noStrike">
                <a:solidFill>
                  <a:srgbClr val="000000"/>
                </a:solidFill>
                <a:latin typeface="Lucida Sans Unicode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646160" y="1071360"/>
            <a:ext cx="403884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Lucida Sans Unicode"/>
              </a:rPr>
              <a:t>Вештачк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sr-RS" sz="1800" spc="-1" strike="noStrike">
                <a:solidFill>
                  <a:srgbClr val="000000"/>
                </a:solidFill>
                <a:latin typeface="Lucida Sans Unicode"/>
              </a:rPr>
              <a:t>медицин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Lucida Sans Unicode"/>
              </a:rPr>
              <a:t>-индустриј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Lucida Sans Unicode"/>
              </a:rPr>
              <a:t>-истраживачки центри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64646"/>
                </a:solidFill>
                <a:latin typeface="Lucida Sans Unicode"/>
              </a:rPr>
              <a:t>Трудноћа и излагање јонизујућем зрачењу</a:t>
            </a:r>
            <a:endParaRPr b="1" lang="en-US" sz="36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25160" y="1557360"/>
            <a:ext cx="8227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Lucida Sans Unicode"/>
              </a:rPr>
              <a:t>Дозе јонизујућих зрачења у дијагностичке сврхе у нуклеарној медицини не могу бити узрок малформација плода и нису индикација за прекид трудноће (став националне комисије САД за заштиту од радијације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Lucida Sans Unicode"/>
              </a:rPr>
              <a:t>Радиосензитивност фетуса је највећа 2.</a:t>
            </a:r>
            <a:r>
              <a:rPr b="0" lang="sr-Latn-RS" sz="26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sr-CS" sz="2600" spc="-1" strike="noStrike">
                <a:solidFill>
                  <a:srgbClr val="000000"/>
                </a:solidFill>
                <a:latin typeface="Lucida Sans Unicode"/>
              </a:rPr>
              <a:t>4. недеље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1" descr=""/>
          <p:cNvPicPr/>
          <p:nvPr/>
        </p:nvPicPr>
        <p:blipFill>
          <a:blip r:embed="rId1"/>
          <a:stretch/>
        </p:blipFill>
        <p:spPr>
          <a:xfrm>
            <a:off x="225360" y="298440"/>
            <a:ext cx="8394840" cy="14446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1676520" y="1371600"/>
            <a:ext cx="5486400" cy="424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"/>
          <p:cNvSpPr/>
          <p:nvPr/>
        </p:nvSpPr>
        <p:spPr>
          <a:xfrm>
            <a:off x="457200" y="1481040"/>
            <a:ext cx="8229600" cy="49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Експозициона доза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-нам д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аје информацију колику јонизацију, односно колико наелектрисање прави у ваздуху радијација (x и гама зрачење) при проласку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редставља количину енергије зрачења апсорбовану у ваздуху, а измерена преко његове јонизације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Јединица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: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C/kg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(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кулон по килограму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количина зрачења која у 1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kg </a:t>
            </a:r>
            <a:r>
              <a:rPr b="0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ваздуха може створити јоне истог знака укупног наелектрисања од 1С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Стара јединица: </a:t>
            </a:r>
            <a:r>
              <a:rPr b="0" i="1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R </a:t>
            </a:r>
            <a:r>
              <a:rPr b="0" i="1" lang="sr-C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(рентген)</a:t>
            </a:r>
            <a:r>
              <a:rPr b="0" i="1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 (Roentgen)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i="1" lang="pt-BR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1 R = 2.58×10</a:t>
            </a:r>
            <a:r>
              <a:rPr b="0" i="1" lang="pt-BR" sz="2200" spc="-1" strike="noStrike" baseline="30000">
                <a:solidFill>
                  <a:srgbClr val="000000"/>
                </a:solidFill>
                <a:latin typeface="Lucida Sans Unicode"/>
                <a:ea typeface="Arial"/>
              </a:rPr>
              <a:t>−4 </a:t>
            </a:r>
            <a:r>
              <a:rPr b="0" i="1" lang="pt-BR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C/kg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CS" sz="4400" spc="-1" strike="noStrike">
                <a:solidFill>
                  <a:srgbClr val="464646"/>
                </a:solidFill>
                <a:latin typeface="Lucida Sans Unicode"/>
              </a:rPr>
              <a:t>Експозициона доза</a:t>
            </a:r>
            <a:endParaRPr b="1" lang="en-US" sz="44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ext Box 1"/>
          <p:cNvSpPr/>
          <p:nvPr/>
        </p:nvSpPr>
        <p:spPr>
          <a:xfrm>
            <a:off x="457200" y="1143000"/>
            <a:ext cx="8229600" cy="49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3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hr-HR" sz="2400" spc="-1" strike="noStrike">
                <a:solidFill>
                  <a:srgbClr val="ffff00"/>
                </a:solidFill>
                <a:latin typeface="Lucida Sans Unicode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Апсорбована</a:t>
            </a:r>
            <a:r>
              <a:rPr b="1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доза</a:t>
            </a:r>
            <a:r>
              <a:rPr b="1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Д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однос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редат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енергиј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мас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m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озраченог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те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D = </a:t>
            </a:r>
            <a:r>
              <a:rPr b="0" lang="el-G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Δ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E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Lucida Sans Unicode"/>
                <a:ea typeface="Times New Roman"/>
              </a:rPr>
              <a:t>D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/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Јединица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ј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Џул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по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килограму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названа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ГРЕЈ</a:t>
            </a:r>
            <a:r>
              <a:rPr b="1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(GRAY)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1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Gy = J/k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рема физичару Louisu Haroldu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Gray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-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i="1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0" i="1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***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Стара</a:t>
            </a:r>
            <a:r>
              <a:rPr b="0" i="1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јединица</a:t>
            </a:r>
            <a:r>
              <a:rPr b="0" i="1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била</a:t>
            </a:r>
            <a:r>
              <a:rPr b="0" i="1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је</a:t>
            </a:r>
            <a:r>
              <a:rPr b="0" i="1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рад</a:t>
            </a:r>
            <a:r>
              <a:rPr b="0" i="1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(rad = 10</a:t>
            </a:r>
            <a:r>
              <a:rPr b="0" i="1" lang="hr-HR" sz="2400" spc="-1" strike="noStrike" baseline="30000">
                <a:solidFill>
                  <a:srgbClr val="000000"/>
                </a:solidFill>
                <a:latin typeface="Lucida Sans Unicode"/>
                <a:ea typeface="Times New Roman"/>
              </a:rPr>
              <a:t>–2</a:t>
            </a:r>
            <a:r>
              <a:rPr b="0" i="1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Gy).***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6504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464646"/>
                </a:solidFill>
                <a:latin typeface="Lucida Sans Unicode"/>
              </a:rPr>
              <a:t>Апсорбована доза</a:t>
            </a:r>
            <a:endParaRPr b="1" lang="en-US" sz="36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1"/>
          <p:cNvSpPr/>
          <p:nvPr/>
        </p:nvSpPr>
        <p:spPr>
          <a:xfrm>
            <a:off x="237960" y="1074600"/>
            <a:ext cx="849816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Биолошк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ефекат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роцењуј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с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рема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репорукама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Међународн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комисиј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а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радиолошку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аштиту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(ICRP)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тежинским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фактором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раче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Тежинск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фактор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W</a:t>
            </a:r>
            <a:r>
              <a:rPr b="0" lang="hr-HR" sz="2400" spc="-1" strike="noStrike" baseline="-25000">
                <a:solidFill>
                  <a:srgbClr val="000000"/>
                </a:solidFill>
                <a:latin typeface="Lucida Sans Unicode"/>
                <a:ea typeface="Arial"/>
              </a:rPr>
              <a:t>R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а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ека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рачења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фотонско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рачењ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еутронско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раче</a:t>
            </a:r>
            <a:r>
              <a:rPr b="0" lang="sr-R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њ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5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…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протонско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зрачењ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   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- </a:t>
            </a:r>
            <a:r>
              <a:rPr b="0" lang="el-G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α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зрачењ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тешкојонско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зрачењ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  2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То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нач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да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ћ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пр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. </a:t>
            </a:r>
            <a:r>
              <a:rPr b="0" lang="el-G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α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зрачењ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узроковат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око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20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пута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већ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биолошк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ефекат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него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једнака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доза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рендгенског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односно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гама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зрачења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!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1"/>
          <p:cNvSpPr/>
          <p:nvPr/>
        </p:nvSpPr>
        <p:spPr>
          <a:xfrm>
            <a:off x="457200" y="1335240"/>
            <a:ext cx="82296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Биолошки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ефекат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јонизујућег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рачења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ближе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се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роцењује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кориговањем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змерене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апсорбоване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дозе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D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тежинским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фактором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W</a:t>
            </a:r>
            <a:r>
              <a:rPr b="0" lang="hr-HR" sz="1900" spc="-1" strike="noStrike" baseline="-25000">
                <a:solidFill>
                  <a:srgbClr val="000000"/>
                </a:solidFill>
                <a:latin typeface="Lucida Sans Unicode"/>
                <a:ea typeface="Arial"/>
              </a:rPr>
              <a:t>R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а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римењено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рачење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Lucida Sans Unicode"/>
                <a:ea typeface="Arial"/>
              </a:rPr>
              <a:t>Еквивалентна</a:t>
            </a:r>
            <a:r>
              <a:rPr b="1" lang="hr-HR" sz="25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Lucida Sans Unicode"/>
                <a:ea typeface="Arial"/>
              </a:rPr>
              <a:t>доза</a:t>
            </a:r>
            <a:r>
              <a:rPr b="1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H</a:t>
            </a:r>
            <a:r>
              <a:rPr b="0" lang="hr-HR" sz="1900" spc="-1" strike="noStrike" baseline="-25000">
                <a:solidFill>
                  <a:srgbClr val="000000"/>
                </a:solidFill>
                <a:latin typeface="Lucida Sans Unicode"/>
                <a:ea typeface="Arial"/>
              </a:rPr>
              <a:t>TR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(engl. equivalent dose)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а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биолошки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ефекат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рачења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R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у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ткиву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T –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умножак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тежинског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фактора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апсорбоване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дозе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1" lang="hr-HR" sz="26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    </a:t>
            </a:r>
            <a:r>
              <a:rPr b="1" lang="hr-HR" sz="2600" spc="-1" strike="noStrike">
                <a:solidFill>
                  <a:srgbClr val="000000"/>
                </a:solidFill>
                <a:latin typeface="Lucida Sans Unicode"/>
                <a:ea typeface="Arial"/>
              </a:rPr>
              <a:t>H</a:t>
            </a:r>
            <a:r>
              <a:rPr b="1" lang="hr-HR" sz="2600" spc="-1" strike="noStrike" baseline="-25000">
                <a:solidFill>
                  <a:srgbClr val="000000"/>
                </a:solidFill>
                <a:latin typeface="Lucida Sans Unicode"/>
                <a:ea typeface="Arial"/>
              </a:rPr>
              <a:t>TR</a:t>
            </a:r>
            <a:r>
              <a:rPr b="1" lang="hr-HR" sz="2600" spc="-1" strike="noStrike">
                <a:solidFill>
                  <a:srgbClr val="000000"/>
                </a:solidFill>
                <a:latin typeface="Lucida Sans Unicode"/>
                <a:ea typeface="Arial"/>
              </a:rPr>
              <a:t> = W</a:t>
            </a:r>
            <a:r>
              <a:rPr b="1" lang="hr-HR" sz="2600" spc="-1" strike="noStrike" baseline="-25000">
                <a:solidFill>
                  <a:srgbClr val="000000"/>
                </a:solidFill>
                <a:latin typeface="Lucida Sans Unicode"/>
                <a:ea typeface="Arial"/>
              </a:rPr>
              <a:t>R</a:t>
            </a:r>
            <a:r>
              <a:rPr b="1" lang="hr-HR" sz="2600" spc="-1" strike="noStrike">
                <a:solidFill>
                  <a:srgbClr val="000000"/>
                </a:solidFill>
                <a:latin typeface="Lucida Sans Unicode"/>
                <a:ea typeface="Arial"/>
              </a:rPr>
              <a:t> D</a:t>
            </a:r>
            <a:r>
              <a:rPr b="1" lang="hr-HR" sz="2600" spc="-1" strike="noStrike" baseline="-25000">
                <a:solidFill>
                  <a:srgbClr val="000000"/>
                </a:solidFill>
                <a:latin typeface="Lucida Sans Unicode"/>
                <a:ea typeface="Arial"/>
              </a:rPr>
              <a:t>T,R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 algn="just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Јединица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је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такође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Џул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о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килограму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,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азван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СИВЕРТ</a:t>
            </a:r>
            <a:r>
              <a:rPr b="1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(SIEVERT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, oznaka Sv),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тј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. </a:t>
            </a:r>
            <a:r>
              <a:rPr b="1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Sv = J/kg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, према медицинском</a:t>
            </a:r>
            <a:r>
              <a:rPr b="0" lang="sr-Latn-C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физичару Rolfu Sievert</a:t>
            </a:r>
            <a:r>
              <a:rPr b="0" lang="sr-Latn-C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-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u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i="1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***</a:t>
            </a:r>
            <a:r>
              <a:rPr b="0" i="1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Стара</a:t>
            </a:r>
            <a:r>
              <a:rPr b="0" i="1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i="1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јединица</a:t>
            </a:r>
            <a:r>
              <a:rPr b="0" i="1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i="1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била</a:t>
            </a:r>
            <a:r>
              <a:rPr b="0" i="1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i="1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је</a:t>
            </a:r>
            <a:r>
              <a:rPr b="0" i="1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i="1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рем</a:t>
            </a:r>
            <a:r>
              <a:rPr b="0" i="1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(rem = 10</a:t>
            </a:r>
            <a:r>
              <a:rPr b="0" i="1" lang="hr-HR" sz="1900" spc="-1" strike="noStrike" baseline="30000">
                <a:solidFill>
                  <a:srgbClr val="000000"/>
                </a:solidFill>
                <a:latin typeface="Lucida Sans Unicode"/>
                <a:ea typeface="Arial"/>
              </a:rPr>
              <a:t>–2</a:t>
            </a:r>
            <a:r>
              <a:rPr b="0" i="1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Sv)***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АПОМЕНА</a:t>
            </a:r>
            <a:r>
              <a:rPr b="1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!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Јединице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обе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дозе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су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J/kg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,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али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се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бог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осебне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важности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а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људско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дравље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спречава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њихова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амена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осебним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азивима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: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а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апсорбовану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дозу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греј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(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G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y),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а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а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еквивалентну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дозу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Сиверт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 (</a:t>
            </a:r>
            <a:r>
              <a:rPr b="0" lang="en-US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Sv</a:t>
            </a:r>
            <a:r>
              <a:rPr b="0" lang="hr-HR" sz="1900" spc="-1" strike="noStrike">
                <a:solidFill>
                  <a:srgbClr val="000000"/>
                </a:solidFill>
                <a:latin typeface="Lucida Sans Unicode"/>
                <a:ea typeface="Arial"/>
              </a:rPr>
              <a:t>)!!!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3924360" y="5796000"/>
            <a:ext cx="1646280" cy="83196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Еквивалентна доза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9" name="Picture 3" descr=""/>
          <p:cNvPicPr/>
          <p:nvPr/>
        </p:nvPicPr>
        <p:blipFill>
          <a:blip r:embed="rId1"/>
          <a:stretch/>
        </p:blipFill>
        <p:spPr>
          <a:xfrm>
            <a:off x="3048120" y="3621240"/>
            <a:ext cx="2822400" cy="106344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4"/>
          <p:cNvSpPr/>
          <p:nvPr/>
        </p:nvSpPr>
        <p:spPr>
          <a:xfrm>
            <a:off x="452520" y="1371600"/>
            <a:ext cx="85834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68000"/>
              <a:buFont typeface="Wingdings 3" charset="2"/>
              <a:buChar char=""/>
              <a:tabLst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Нису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сва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ткива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органи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подједнако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осетљиви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дејство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зрачења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Тежински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фактор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W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Lucida Sans Unicode"/>
              </a:rPr>
              <a:t>T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рефлектује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различиту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осетљивост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на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зрачење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различитих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ткива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органа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Апликација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оба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тежинска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фактора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за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врсту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радијације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(W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Lucida Sans Unicode"/>
              </a:rPr>
              <a:t>R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за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врсту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ткива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(W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Lucida Sans Unicode"/>
              </a:rPr>
              <a:t>T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),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даје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ефективну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дозу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(E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ffective dose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Где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Е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ефективна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доза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, (W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Lucida Sans Unicode"/>
              </a:rPr>
              <a:t>R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(W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Lucida Sans Unicode"/>
              </a:rPr>
              <a:t>T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тежински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фактори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за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радијацију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ткиво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(D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Lucida Sans Unicode"/>
              </a:rPr>
              <a:t>T,R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)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средња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апсорбована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доза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ткиву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органу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Т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при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дејству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радијације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R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Јединица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Џул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по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килограму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(J/kg),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односно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Сиверт</a:t>
            </a:r>
            <a:r>
              <a:rPr b="0" lang="sr-Latn-CS" sz="2200" spc="-1" strike="noStrike">
                <a:solidFill>
                  <a:srgbClr val="000000"/>
                </a:solidFill>
                <a:latin typeface="Lucida Sans Unicode"/>
              </a:rPr>
              <a:t> (Sv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Ефективна доза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RS" sz="4100" spc="-1" strike="noStrike">
                <a:solidFill>
                  <a:srgbClr val="464646"/>
                </a:solidFill>
                <a:latin typeface="Lucida Sans Unicode"/>
              </a:rPr>
              <a:t>Ткивни тежински фактор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RS" sz="2700" spc="-1" strike="noStrike">
                <a:solidFill>
                  <a:srgbClr val="000000"/>
                </a:solidFill>
                <a:latin typeface="Lucida Sans Unicode"/>
              </a:rPr>
              <a:t>бездимензион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Lucida Sans Unicode"/>
              </a:rPr>
              <a:t>факто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Lucida Sans Unicode"/>
              </a:rPr>
              <a:t>кој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Lucida Sans Unicode"/>
              </a:rPr>
              <a:t>с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Lucida Sans Unicode"/>
              </a:rPr>
              <a:t>корист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Lucida Sans Unicode"/>
              </a:rPr>
              <a:t>у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Lucida Sans Unicode"/>
              </a:rPr>
              <a:t>заштит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Lucida Sans Unicode"/>
              </a:rPr>
              <a:t>од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Lucida Sans Unicode"/>
              </a:rPr>
              <a:t>јонизујућих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Lucida Sans Unicode"/>
              </a:rPr>
              <a:t>зрачењ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Lucida Sans Unicode"/>
              </a:rPr>
              <a:t>д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Lucida Sans Unicode"/>
              </a:rPr>
              <a:t>б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Lucida Sans Unicode"/>
              </a:rPr>
              <a:t>с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Lucida Sans Unicode"/>
              </a:rPr>
              <a:t>узел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Lucida Sans Unicode"/>
              </a:rPr>
              <a:t>у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Lucida Sans Unicode"/>
              </a:rPr>
              <a:t>обзи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Lucida Sans Unicode"/>
              </a:rPr>
              <a:t>различит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Lucida Sans Unicode"/>
              </a:rPr>
              <a:t>осетљивост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Lucida Sans Unicode"/>
              </a:rPr>
              <a:t>појединих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Lucida Sans Unicode"/>
              </a:rPr>
              <a:t>орган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Picture 1" descr=""/>
          <p:cNvPicPr/>
          <p:nvPr/>
        </p:nvPicPr>
        <p:blipFill>
          <a:blip r:embed="rId1"/>
          <a:srcRect l="0" t="32758" r="2312" b="0"/>
          <a:stretch/>
        </p:blipFill>
        <p:spPr>
          <a:xfrm>
            <a:off x="1116000" y="3255840"/>
            <a:ext cx="6985080" cy="360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457200" y="228600"/>
            <a:ext cx="8229600" cy="62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Ефективна доза је у ствари мера ризика од штетних ефеката јонизујућег зрачења. Другим речима, ефективна доза нам служи за поређење стохастичког ризика (карциногенеза и хередитарни ефекти) код неуниформне експозиције јонизујућем зрачењу са ризиком који постоји код униформног излагања целог тел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Arial"/>
              </a:rPr>
              <a:t>Како је тежински фактор зрачења за јонизујућа зрачења која се користе у медицини (осим врло ретких случајева) једнак јединици, онда је апсорбована доза у mGy једнака еквивалентној дози у mSv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1" descr=""/>
          <p:cNvPicPr/>
          <p:nvPr/>
        </p:nvPicPr>
        <p:blipFill>
          <a:blip r:embed="rId1"/>
          <a:stretch/>
        </p:blipFill>
        <p:spPr>
          <a:xfrm>
            <a:off x="108000" y="1197000"/>
            <a:ext cx="8856720" cy="4705200"/>
          </a:xfrm>
          <a:prstGeom prst="rect">
            <a:avLst/>
          </a:prstGeom>
          <a:ln cap="sq" w="3240">
            <a:solidFill>
              <a:srgbClr val="ff0000"/>
            </a:solidFill>
            <a:miter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Граница ефективне дозе 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"/>
          <p:cNvSpPr/>
          <p:nvPr/>
        </p:nvSpPr>
        <p:spPr>
          <a:xfrm>
            <a:off x="5673240" y="5334120"/>
            <a:ext cx="27820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укупно: 3 mSv/год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звори из природе 79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Lucida Sans Unicode"/>
              </a:rPr>
              <a:t>М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едицинско излагање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Sans Unicode"/>
              </a:rPr>
              <a:t>20 </a:t>
            </a:r>
            <a:r>
              <a:rPr b="0" lang="en-GB" sz="1600" spc="-1" strike="noStrike">
                <a:solidFill>
                  <a:srgbClr val="000000"/>
                </a:solidFill>
                <a:latin typeface="Lucida Sans Unicode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971640" y="6272280"/>
            <a:ext cx="698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zvor: United Nations Scientific Committee for Effect of Atomic Radiation (UNSCEAR), 2010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1139760" y="1365120"/>
            <a:ext cx="6602400" cy="427356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Извори јонизујућег зрачења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1" descr=""/>
          <p:cNvPicPr/>
          <p:nvPr/>
        </p:nvPicPr>
        <p:blipFill>
          <a:blip r:embed="rId1"/>
          <a:stretch/>
        </p:blipFill>
        <p:spPr>
          <a:xfrm>
            <a:off x="2054160" y="1481040"/>
            <a:ext cx="5035680" cy="45259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" descr=""/>
          <p:cNvPicPr/>
          <p:nvPr/>
        </p:nvPicPr>
        <p:blipFill>
          <a:blip r:embed="rId2"/>
          <a:stretch/>
        </p:blipFill>
        <p:spPr>
          <a:xfrm>
            <a:off x="682560" y="208080"/>
            <a:ext cx="7858080" cy="124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1" descr=""/>
          <p:cNvPicPr/>
          <p:nvPr/>
        </p:nvPicPr>
        <p:blipFill>
          <a:blip r:embed="rId1"/>
          <a:stretch/>
        </p:blipFill>
        <p:spPr>
          <a:xfrm>
            <a:off x="7391520" y="5334120"/>
            <a:ext cx="1368360" cy="119520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Мере заштите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аштита пацијенат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Заштита професионално изложеног особљ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Заштита популациј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Циљ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: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Д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с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потпуно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елиминишу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детерминистички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д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с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вероватноћ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настанк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стохастичких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ефекат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редукуј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н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најмању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могућу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меру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ALARA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(As Low As Resonable Achievable)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ринцип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Толико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иско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колико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ј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разумно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могуће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Међународни симбол зрачења први пут се појавио 1946. године на Калифорнијском универзитету Беркли</a:t>
            </a:r>
            <a:r>
              <a:rPr b="0" lang="sr-Latn-R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у Лабораторији за зрачење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Заштита од зрачења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397" name="Picture 1" descr=""/>
          <p:cNvPicPr/>
          <p:nvPr/>
        </p:nvPicPr>
        <p:blipFill>
          <a:blip r:embed="rId1"/>
          <a:stretch/>
        </p:blipFill>
        <p:spPr>
          <a:xfrm>
            <a:off x="3348000" y="5003640"/>
            <a:ext cx="1906560" cy="166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ext Box 1"/>
          <p:cNvSpPr/>
          <p:nvPr/>
        </p:nvSpPr>
        <p:spPr>
          <a:xfrm>
            <a:off x="457200" y="1295280"/>
            <a:ext cx="4906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ucida Sans Unicode"/>
              </a:rPr>
              <a:t>Заштита особљ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време &lt;&l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растојање &gt;&g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зашт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Lucida Sans Unicode"/>
              </a:rPr>
              <a:t>Заштита од контамин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Одело и обућа, Дигестори, Рукавице, Прање руку, Забрана јела и пића, Пнеуматске пипете, Безбедно уклањање отпада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Обучено особљ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Дозвола за ра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дозиметр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9" name="Picture 1" descr=""/>
          <p:cNvPicPr/>
          <p:nvPr/>
        </p:nvPicPr>
        <p:blipFill>
          <a:blip r:embed="rId1"/>
          <a:stretch/>
        </p:blipFill>
        <p:spPr>
          <a:xfrm>
            <a:off x="5796000" y="1773360"/>
            <a:ext cx="3090960" cy="3456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Заштита од зрачења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3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2. Заштита пацијената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збор индикација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збор радионуклида и радиофармацеутика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аштита од спољњег зрачења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Стална и ригорозна евиденција испитивања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Заштита од зрачења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ндикатори</a:t>
            </a:r>
            <a:r>
              <a:rPr b="1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ли</a:t>
            </a:r>
            <a:r>
              <a:rPr b="1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детектори</a:t>
            </a:r>
            <a:r>
              <a:rPr b="1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рачења</a:t>
            </a:r>
            <a:r>
              <a:rPr b="1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–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оказују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остојањ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рачења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Ако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могу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бројат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оједин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фотон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л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честиц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азивају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с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бројач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- </a:t>
            </a:r>
            <a:r>
              <a:rPr b="1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мерни</a:t>
            </a:r>
            <a:r>
              <a:rPr b="1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уређаји</a:t>
            </a:r>
            <a:r>
              <a:rPr b="1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(</a:t>
            </a:r>
            <a:r>
              <a:rPr b="1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мерни</a:t>
            </a:r>
            <a:r>
              <a:rPr b="1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нструменти</a:t>
            </a:r>
            <a:r>
              <a:rPr b="1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) 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–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римењују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квантитативно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ознат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однос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неког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својства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рачења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оследиц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озрачива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Разликују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с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визуализатор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трагова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фотона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л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чест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дозиметр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а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мерењ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енергиј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коју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ј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рачењ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редало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материј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бројач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кој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број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фотон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л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чест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r-RS" sz="3700" spc="-1" strike="noStrike">
                <a:solidFill>
                  <a:srgbClr val="464646"/>
                </a:solidFill>
                <a:latin typeface="Lucida Sans Unicode"/>
              </a:rPr>
              <a:t>Уређаји за детекцију и мерење зрачења</a:t>
            </a:r>
            <a:endParaRPr b="1" lang="en-US" sz="3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риручн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мерн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уређај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лаган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малих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димезија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кој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мер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трајно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региструју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рач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Служ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а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раћењ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озрачивања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особа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посебно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оних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кој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трајно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рад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с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зворима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ионизујућег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зраче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Главн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врсте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филм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дозиметар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термолуминисцентн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дозиметар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- “</a:t>
            </a:r>
            <a:r>
              <a:rPr b="0" lang="sr-Latn-CS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direct reading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  <a:ea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6" name="Picture 3" descr=""/>
          <p:cNvPicPr/>
          <p:nvPr/>
        </p:nvPicPr>
        <p:blipFill>
          <a:blip r:embed="rId1"/>
          <a:stretch/>
        </p:blipFill>
        <p:spPr>
          <a:xfrm>
            <a:off x="7819920" y="3540240"/>
            <a:ext cx="1324080" cy="331776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Лични дозиметри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1" descr=""/>
          <p:cNvPicPr/>
          <p:nvPr/>
        </p:nvPicPr>
        <p:blipFill>
          <a:blip r:embed="rId1"/>
          <a:stretch/>
        </p:blipFill>
        <p:spPr>
          <a:xfrm>
            <a:off x="4343400" y="1295280"/>
            <a:ext cx="4591080" cy="146376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3"/>
          <p:cNvSpPr/>
          <p:nvPr/>
        </p:nvSpPr>
        <p:spPr>
          <a:xfrm>
            <a:off x="152280" y="1219320"/>
            <a:ext cx="394344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филм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дозимета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термолуминисцентни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дозиметар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hr-HR" sz="2400" spc="-1" strike="noStrike">
                <a:solidFill>
                  <a:srgbClr val="000000"/>
                </a:solidFill>
                <a:latin typeface="Lucida Sans Unicode"/>
              </a:rPr>
              <a:t>direct reading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0" name="Picture 4" descr=""/>
          <p:cNvPicPr/>
          <p:nvPr/>
        </p:nvPicPr>
        <p:blipFill>
          <a:blip r:embed="rId2"/>
          <a:stretch/>
        </p:blipFill>
        <p:spPr>
          <a:xfrm>
            <a:off x="7467480" y="2971800"/>
            <a:ext cx="1459080" cy="20192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5" descr=""/>
          <p:cNvPicPr/>
          <p:nvPr/>
        </p:nvPicPr>
        <p:blipFill>
          <a:blip r:embed="rId3"/>
          <a:stretch/>
        </p:blipFill>
        <p:spPr>
          <a:xfrm>
            <a:off x="4724280" y="2971800"/>
            <a:ext cx="2619360" cy="12193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"/>
          <p:cNvPicPr/>
          <p:nvPr/>
        </p:nvPicPr>
        <p:blipFill>
          <a:blip r:embed="rId4"/>
          <a:stretch/>
        </p:blipFill>
        <p:spPr>
          <a:xfrm>
            <a:off x="6781680" y="5029200"/>
            <a:ext cx="1785960" cy="12924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7" descr=""/>
          <p:cNvPicPr/>
          <p:nvPr/>
        </p:nvPicPr>
        <p:blipFill>
          <a:blip r:embed="rId5"/>
          <a:stretch/>
        </p:blipFill>
        <p:spPr>
          <a:xfrm>
            <a:off x="4572000" y="5410080"/>
            <a:ext cx="1733400" cy="46692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8"/>
          <p:cNvSpPr/>
          <p:nvPr/>
        </p:nvSpPr>
        <p:spPr>
          <a:xfrm>
            <a:off x="4114800" y="62485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z fiber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hr-HR" sz="1800" spc="-1" strike="noStrike">
                <a:solidFill>
                  <a:srgbClr val="000000"/>
                </a:solidFill>
                <a:latin typeface="Times New Roman"/>
              </a:rPr>
              <a:t>solid stat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69800" y="85320"/>
            <a:ext cx="8228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Лични дозиметри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416" name="Picture 1" descr=""/>
          <p:cNvPicPr/>
          <p:nvPr/>
        </p:nvPicPr>
        <p:blipFill>
          <a:blip r:embed="rId6"/>
          <a:stretch/>
        </p:blipFill>
        <p:spPr>
          <a:xfrm>
            <a:off x="2340000" y="3281400"/>
            <a:ext cx="2003400" cy="139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Закључак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480680"/>
            <a:ext cx="822816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Јонизујуће зрачење може бити и увек јесте опасно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Петкау ефекат (dr Abram Petkau, 1972.) : не постоји безбедна доза зрачењ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Нема доњег прага нешкодљивог озрачења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Постоји горњи праг дозвољеног озрачења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Знање омогућава ефикаснију заштиту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!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Lucida Sans Unicode"/>
              </a:rPr>
              <a:t>Заштиту треба спроводити доследно и перманентно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5734080" cy="57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Извори јонизујућег зрачења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pic>
        <p:nvPicPr>
          <p:cNvPr id="298" name="Content Placeholder 4" descr=""/>
          <p:cNvPicPr/>
          <p:nvPr/>
        </p:nvPicPr>
        <p:blipFill>
          <a:blip r:embed="rId1"/>
          <a:stretch/>
        </p:blipFill>
        <p:spPr>
          <a:xfrm>
            <a:off x="108000" y="2205000"/>
            <a:ext cx="4319640" cy="3295800"/>
          </a:xfrm>
          <a:prstGeom prst="rect">
            <a:avLst/>
          </a:prstGeom>
          <a:ln w="0">
            <a:noFill/>
          </a:ln>
        </p:spPr>
      </p:pic>
      <p:pic>
        <p:nvPicPr>
          <p:cNvPr id="299" name="Content Placeholder 5" descr=""/>
          <p:cNvPicPr/>
          <p:nvPr/>
        </p:nvPicPr>
        <p:blipFill>
          <a:blip r:embed="rId2"/>
          <a:stretch/>
        </p:blipFill>
        <p:spPr>
          <a:xfrm>
            <a:off x="4646520" y="2081160"/>
            <a:ext cx="4038840" cy="33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086600" cy="51530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" descr=""/>
          <p:cNvPicPr/>
          <p:nvPr/>
        </p:nvPicPr>
        <p:blipFill>
          <a:blip r:embed="rId2"/>
          <a:stretch/>
        </p:blipFill>
        <p:spPr>
          <a:xfrm>
            <a:off x="1828800" y="5638680"/>
            <a:ext cx="5286240" cy="10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1"/>
          <p:cNvSpPr/>
          <p:nvPr/>
        </p:nvSpPr>
        <p:spPr>
          <a:xfrm>
            <a:off x="228600" y="1481040"/>
            <a:ext cx="8458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Посл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јонизациј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с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кидају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 интрамолекуларне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вез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 Прекинут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вез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изазивају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дисоцијацију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и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рекомбинацију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молекула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У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живом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организму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такве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промене</a:t>
            </a:r>
            <a:r>
              <a:rPr b="0" lang="pl-P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изазивају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разн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ефект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тј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биолошке</a:t>
            </a:r>
            <a:r>
              <a:rPr b="0" lang="sr-Latn-C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последице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 algn="just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Радиобиолошки ефекти настају директним и индиректним дејством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Радијационо оштећење ћелије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1"/>
          <p:cNvSpPr/>
          <p:nvPr/>
        </p:nvSpPr>
        <p:spPr>
          <a:xfrm>
            <a:off x="0" y="1295280"/>
            <a:ext cx="876312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3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Arial"/>
              </a:rPr>
              <a:t>У десетобилионитом делу секунде електрон се одваја од атома и настају слободни електрон, који ако има довољну енергију може даље да јонизује, и позитивни јон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5040" indent="-2538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3" name="Picture 2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474040" cy="11588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3" descr=""/>
          <p:cNvPicPr/>
          <p:nvPr/>
        </p:nvPicPr>
        <p:blipFill>
          <a:blip r:embed="rId2"/>
          <a:stretch/>
        </p:blipFill>
        <p:spPr>
          <a:xfrm>
            <a:off x="4648320" y="4226040"/>
            <a:ext cx="3944880" cy="26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1"/>
          <p:cNvSpPr/>
          <p:nvPr/>
        </p:nvSpPr>
        <p:spPr>
          <a:xfrm>
            <a:off x="463680" y="1427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електрон и јон су врло нестабилни и у десетомилијардитом делу секунде интерреагују и настају нови молекули, укључујући и слободне радикале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6" name="Picture 2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474040" cy="11588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" descr=""/>
          <p:cNvPicPr/>
          <p:nvPr/>
        </p:nvPicPr>
        <p:blipFill>
          <a:blip r:embed="rId2"/>
          <a:srcRect l="860" t="26060" r="39609" b="19761"/>
          <a:stretch/>
        </p:blipFill>
        <p:spPr>
          <a:xfrm>
            <a:off x="2627280" y="3860640"/>
            <a:ext cx="2592360" cy="177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1"/>
          <p:cNvSpPr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sr-CS" sz="2700" spc="-1" strike="noStrike">
                <a:solidFill>
                  <a:srgbClr val="000000"/>
                </a:solidFill>
                <a:latin typeface="Lucida Sans Unicode"/>
              </a:rPr>
              <a:t>Директно, дејством јонизујућег зрачења на виталне макромолекуле ћелија (протеине, липиде и нуклеинске киселине). 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6360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9" name="Picture 2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474040" cy="115884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3" descr=""/>
          <p:cNvPicPr/>
          <p:nvPr/>
        </p:nvPicPr>
        <p:blipFill>
          <a:blip r:embed="rId2"/>
          <a:stretch/>
        </p:blipFill>
        <p:spPr>
          <a:xfrm>
            <a:off x="4572000" y="4051440"/>
            <a:ext cx="4567320" cy="2577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07:29:10Z</dcterms:created>
  <dc:creator>Info</dc:creator>
  <dc:description/>
  <dc:language>en-US</dc:language>
  <cp:lastModifiedBy>Vladimir Vukomanovic</cp:lastModifiedBy>
  <dcterms:modified xsi:type="dcterms:W3CDTF">2020-09-28T08:44:26Z</dcterms:modified>
  <cp:revision>133</cp:revision>
  <dc:subject/>
  <dc:title>БИОЛОШКИ ЕФЕКТИ ЗРАЧЕЊА</dc:title>
</cp:coreProperties>
</file>